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69B-4819-410D-9448-78B773E0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DC5-FF77-4211-8235-89A21FFA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C4F-F0E9-485C-A161-C783D7AC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D75-3D83-437B-9483-AD5FC739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14F-9E01-4646-AFF5-9AD3A13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9E8-0D5C-4B30-B847-16995C59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A4C-CAF2-4BA9-87B5-17A7EE9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BAE-E24B-4B2B-A76C-5EB362A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1C-0CA6-43F0-8005-BA29DD2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A23-6BF7-4869-B4D2-29FE69A5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C41-A78E-496C-8082-926BE07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6AE-8A01-4BD3-8987-C2A3EFA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160-9BD3-4D06-9884-0A8DDFE4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ohort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328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914400" y="1447920"/>
            <a:ext cx="7162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6019920"/>
            <a:ext cx="83822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80880"/>
            <a:ext cx="716292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209680" y="1295280"/>
            <a:ext cx="47246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600" y="6172200"/>
            <a:ext cx="12193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67480" y="65530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4771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94489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914400" y="114300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20:19:56Z</cp:lastPrinted>
  <dcterms:modified xsi:type="dcterms:W3CDTF">2002-09-13T19:21:08Z</dcterms:modified>
  <cp:revision>87</cp:revision>
  <dc:subject/>
  <dc:title>The Art in the State of the Art</dc:title>
</cp:coreProperties>
</file>